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DB8-DA21-4876-BAA9-AE946103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9AA-AEEA-44EF-A705-9D5BB9F5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B7A-94BA-4557-8ECC-C7BCAF5F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27C-F750-42E6-AE95-EEDEB0BE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128-9B5A-4309-99CA-28F19789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A41-403E-4AB4-BC05-0E214A1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B7F-25FF-4074-8976-5F59FB0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E28-6A7E-45EA-8D2A-82815242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D89-21A1-470B-9193-7D36F964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758-20D5-461B-82B8-1EC0225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B3A-72C6-46B8-9B29-00B83F8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1BC-C055-46A0-A98D-37322A3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A5F-3137-414E-8F40-8CB2080E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SEASE FREQUENCY AND EFFEC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83808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76212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54" r="0" b="12580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1143000" y="9907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579" r="0" b="1181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7621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7610" r="0" b="15559"/>
          <a:stretch/>
        </p:blipFill>
        <p:spPr>
          <a:xfrm>
            <a:off x="1143000" y="1066680"/>
            <a:ext cx="7010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1766" r="0" b="31005"/>
          <a:stretch/>
        </p:blipFill>
        <p:spPr>
          <a:xfrm>
            <a:off x="685800" y="8380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2316" r="0" b="31456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705" r="0" b="75341"/>
          <a:stretch/>
        </p:blipFill>
        <p:spPr>
          <a:xfrm>
            <a:off x="1066680" y="1981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16" r="0" b="39404"/>
          <a:stretch/>
        </p:blipFill>
        <p:spPr>
          <a:xfrm>
            <a:off x="990720" y="9907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1066680" y="91440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791" r="0" b="28589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91440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7621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22:27:50Z</dcterms:modified>
  <cp:revision>95</cp:revision>
  <dc:subject/>
  <dc:title>The Art in the State of the Art</dc:title>
</cp:coreProperties>
</file>